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BF87-A1BD-4A1A-8C8C-678F40BA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463F-32F2-45B4-8034-4D806581A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681-6767-4835-93FC-B1EE9E3A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553-7F03-46D7-8DBB-98AF38A6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49B-BFE6-4608-A3C2-D8C7EE9E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AE6-A1C3-493E-B775-3558A692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287-8839-4F0C-ADD1-78A4C82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F52-9832-4B55-8A66-FBE16D17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91A-E2BF-42AF-83CC-7287D2D1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83F-E4CA-434B-AFE2-30C77339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FA3-6ED2-4273-935D-F0F7DFCA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010-9A33-48B2-9FA2-613C9660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FEF-3C1E-4A90-AA30-3E10326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C7E-EB04-43FE-A7C2-8F8DB07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DFF7-9473-4D6C-8E22-BCA7DEC7D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ina Lab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mina Labane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029200"/>
            <a:ext cx="60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76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es Amina &lt;3 Yo vivo en New York City. Tengo catorce años. Tengo no hermanos. Yo soy divertida y simpatica. Yo soy feliz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En una realacion con Just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914400" y="5029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5715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83808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res muy bonita.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Just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na y @Jamie! Buenos Dias mi amig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1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2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Screen Shot 2012-12-04 at 9.53.06 AM.png"/>
          <p:cNvPicPr/>
          <p:nvPr/>
        </p:nvPicPr>
        <p:blipFill>
          <a:blip r:embed="rId3"/>
          <a:stretch/>
        </p:blipFill>
        <p:spPr>
          <a:xfrm>
            <a:off x="1981080" y="2514600"/>
            <a:ext cx="655920" cy="52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Screen Shot 2012-12-04 at 9.56.14 AM.png"/>
          <p:cNvPicPr/>
          <p:nvPr/>
        </p:nvPicPr>
        <p:blipFill>
          <a:blip r:embed="rId4"/>
          <a:stretch/>
        </p:blipFill>
        <p:spPr>
          <a:xfrm>
            <a:off x="1981080" y="327672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Screen Shot 2012-12-04 at 9.56.14 AM.png"/>
          <p:cNvPicPr/>
          <p:nvPr/>
        </p:nvPicPr>
        <p:blipFill>
          <a:blip r:embed="rId5"/>
          <a:stretch/>
        </p:blipFill>
        <p:spPr>
          <a:xfrm>
            <a:off x="152280" y="449568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Screen Shot 2012-12-04 at 9.53.06 AM.png"/>
          <p:cNvPicPr/>
          <p:nvPr/>
        </p:nvPicPr>
        <p:blipFill>
          <a:blip r:embed="rId6"/>
          <a:stretch/>
        </p:blipFill>
        <p:spPr>
          <a:xfrm>
            <a:off x="838080" y="4495680"/>
            <a:ext cx="655920" cy="52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hoto on 12-5-12 at 9.47 AM #4.jpg"/>
          <p:cNvPicPr/>
          <p:nvPr/>
        </p:nvPicPr>
        <p:blipFill>
          <a:blip r:embed="rId7"/>
          <a:stretch/>
        </p:blipFill>
        <p:spPr>
          <a:xfrm>
            <a:off x="152280" y="1371600"/>
            <a:ext cx="1524240" cy="101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hoto on 12-5-12 at 9.47 AM.jpg"/>
          <p:cNvPicPr/>
          <p:nvPr/>
        </p:nvPicPr>
        <p:blipFill>
          <a:blip r:embed="rId8"/>
          <a:stretch/>
        </p:blipFill>
        <p:spPr>
          <a:xfrm>
            <a:off x="152280" y="5257800"/>
            <a:ext cx="6098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6:08Z</dcterms:modified>
  <cp:revision>106</cp:revision>
  <dc:subject/>
  <dc:title>Profile</dc:title>
</cp:coreProperties>
</file>